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FD0-D3F2-4D3E-AAD9-05E70708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0554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EB0-3C26-4936-92F1-486C2B1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EA1-53E2-483A-84A5-22FF2195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1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1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1DC-982A-4315-9136-65E699ED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57320"/>
            <a:ext cx="87850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CC7-4B09-4F6F-9CB1-7F9B6719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40554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092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1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092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1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917-6088-48CF-93F0-F6015DC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82E-4C09-4337-AE54-5D6A5E6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8FA-5A37-487B-9BAB-03C8702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157320"/>
            <a:ext cx="87850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EC5-E0F7-4F35-8978-16F59FA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10C-8014-4E63-AB4C-C5A6EB7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40554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0A2-0B82-4AD7-A24C-8126D57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97000"/>
            <a:ext cx="42868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055400"/>
            <a:ext cx="8785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015-554F-469D-B4D2-901B2C7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640" y="6597720"/>
            <a:ext cx="6415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6319-01FC-4351-B10A-28CEDD10C92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00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860640"/>
            <a:ext cx="792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5267160"/>
            <a:ext cx="849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本投影片（下稱教用資源）僅授權給採用教用資源相關之旗標書籍為教科書之授課老師（下稱老師）專用，老師為教學使用之目的，得摘錄、編輯、重製教用資源（但使用量不得超過各該教用資源內容之</a:t>
            </a: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80%</a:t>
            </a: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）以製作為輔助教學之教學投影片，並於授課時搭配旗標書籍公開播放，但不得為網際網路公開傳輸之遠距教學、網路教學等之使用；除此之外，老師不得再授權予任何第三人使用，並不得將依此授權所製作之教學投影片之相關著作物移作他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著作權所有 </a:t>
            </a:r>
            <a:r>
              <a:rPr b="0" lang="zh-TW" sz="1400" spc="-1" strike="noStrike">
                <a:solidFill>
                  <a:srgbClr val="5f5f5f"/>
                </a:solidFill>
                <a:latin typeface="新細明體"/>
              </a:rPr>
              <a:t>©</a:t>
            </a: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 </a:t>
            </a:r>
            <a:r>
              <a:rPr b="0" lang="zh-TW" sz="1400" spc="-1" strike="noStrike">
                <a:solidFill>
                  <a:srgbClr val="5f5f5f"/>
                </a:solidFill>
                <a:latin typeface="標楷體"/>
                <a:ea typeface="標楷體"/>
              </a:rPr>
              <a:t>旗標出版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06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cc6600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3860640"/>
            <a:ext cx="792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認識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3153960"/>
            <a:ext cx="46148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Arial"/>
              </a:rPr>
              <a:t>第 </a:t>
            </a:r>
            <a:r>
              <a:rPr b="0" lang="zh-TW" sz="3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33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991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年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8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5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日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SENE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新聞群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mi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上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表了第一篇關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文章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801540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0AC-71A5-4D87-8E9A-DD1B0A591F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7280" y="1700280"/>
            <a:ext cx="8677440" cy="48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9C-A612-4CCA-99AE-176C83F93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篇歷史性的文章正式宣告了一個新作業系統的誕生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由此開啟了資訊業一場意外的革命。隨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0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5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日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公開宣佈了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第一個『 正式』版本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0.0.2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屬於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駭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hacker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功能仍相當不完善。但在世界各地的網友共同參與研究與開發之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逐漸發展成為今日功能強大的作業系統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052-CC5C-4553-A4F2-33B0DD5A2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該如何發音呢？由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不是一個原有的英文字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在字典中並無法查到其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正確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音標標示。但根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本人唸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錄音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u"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應該發成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K.K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音標中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 ^ "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3320" y="1287360"/>
            <a:ext cx="50796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21F-D942-4DF1-A225-12DF998B4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駭客與怪客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駭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今日來說似乎是個負面的象徵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實駭客本來是指那些專精於某方面技術的人物；對電腦而言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駭客就是精通系統、周邊、以及各種軟硬體技術的人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他們擁有專業技術得以自行解決許多問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且沉浸在該領域之中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對於各種報酬並不感興趣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些駭客逾越了尺度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運用自己的知識去做出有損他人權益的事情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我們稱這種人為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怪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cracker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破壞者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非駭客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092-AC68-4C9A-80D2-593CFB11BE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2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各式各樣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由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標榜自由與開放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衍生出許多不同的版本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常見的有本書將介紹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以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GNU/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penSUS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entOS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Mint...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。這些版本之間到底有什麼不同？為什麼都稱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呢？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23C-EE96-4C06-9310-1C238E827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實這眾多的版本都是所謂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用的都是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維護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核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(kernel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謂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核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實就是一個作業系統最重要的心臟部位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它負責所有讓系統得以正確、有效運行相關的工作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包括控制電腦的硬體、管理所使用的檔案系統、掌握系統運作過程中的所有程式排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...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5BA-73FB-4A83-9B1E-CBB2B90CA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核心版本的編號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通常以小數點後第一位為偶數表示穩定的版本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以奇數表示測試版本。例如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.4.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.6.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版為穩定的版本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.3.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.5.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測試版本。您可以到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ttp://www.kernel.org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網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查詢核心的最新版本及相關的訊息。隨著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愈來愈受歡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核心的更新速度也加快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大約每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 ~ 3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個月就會有新版的核心推出。所以自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.6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版以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核心已取消使用小數點後第一位數來區分穩定版或測試版的機制。所以您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ttp://www.kernel.org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上會看到像是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3.3.8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版的核心被列為穩定版的情形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3320" y="1287360"/>
            <a:ext cx="50796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3FD-D46B-4F8D-927B-27D7E1AE5E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雖然核心是作業系統最重要的部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是一個作業系統光是有核心還是不夠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仍然需要友善的使用者介面、應用程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才能有效的幫助使用者完成工作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由於能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上運行的軟體眾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遍佈各處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用者經常需要自行尋找、收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然後下載、安裝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十分不便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816-E925-4781-9A78-FC7E2ED96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為了安裝上的方便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些組織或廠商將多種軟體組合起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核心一併包裝、發行或販賣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成為現在為數眾多的各種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發行版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distribution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無論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USE 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Mandriva 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lackware 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GNU/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...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是使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核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包裝不同應用程式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：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610-F8B4-43E9-9620-42EB75AC6C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本章重點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-1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起源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-2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各式各樣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 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-3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何要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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-4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中文化 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-5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資訊何處尋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C81-6A97-4B6A-B442-926BF9EBF7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6320" cy="39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406-8B75-4A4D-A5CB-DA2B01805B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核心與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Projec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開發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由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以開放原始碼的觀念為訴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採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(General Public License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通用公共授權為規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任何程式設計者在取得原始碼之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可以自由修改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成為另外一套軟體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例如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源自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GNU/Linux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依照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規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任何軟體只要使用了採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授權的程式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必須沿用同樣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授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讓原始程式碼得以開放給其他的程式設計者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如此才能讓各種軟體的發展綿延不絕地傳承下去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3320" y="1287360"/>
            <a:ext cx="50796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666-C75E-4A72-96F9-C6E53BAF53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自由不等同於免費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通用公共授權為開放原始碼運動的先驅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ichard Stallman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倡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採用這項授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或是其他類似授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軟體被稱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ree Softwar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處 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re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 的意義絕非一般人誤解的『 免費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是代表『 自由』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倡使用者對軟體有研究、使用、散佈與修改的自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要求任何人在散佈軟體時必須隨附原始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樣做的目的是為了促進軟體的快速發展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646-A055-48D5-A90D-E6FC93E95D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自由不等同於免費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也因為使用者可以自由散佈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以自由軟體廠商的營利方式通常由賣軟體轉為賣服務為主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導致自由軟體的售價大多較為低廉甚至免費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如果我們以因果關係來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自由為起因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而產生了許多結果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免費僅是其中的一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只要遵守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規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自由軟體還是可以向使用者收費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以我們不應該直接就認定自由軟體為免費軟體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782-65C2-46FB-8B5C-01D99207F9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常見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有以下幾種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Fedora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此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繼承自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界的龍頭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Linux 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原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公司的免費版本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自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003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年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1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後便不再更新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改由其贊助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Projec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釋出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原名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Core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第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7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版起改名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使用者最多的發行版。 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35280" y="4653000"/>
            <a:ext cx="20005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485-BD50-42B9-9E73-DC6AB3A22A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Debian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GNU/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Projec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組織所發行的版本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雖然使用難度較高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是擁有完善的套件管理方式及線上更新的功能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頗受進階使用者的歡迎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340000" cy="9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E20-E4FF-4AB4-9966-4BE0E0198B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Ubuntu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此發行版是從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GNU/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改良而來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即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P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授權應用的實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沿襲了其嚴謹的架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基金會負責發展與維護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訴求的重點 － 簡單好用的人性化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(Linux for Human Beings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更讓其大受讚賞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004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年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0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發行第一個版本至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已成為國外各大網站調查中最受歡迎的發行版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766960" cy="76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AC6-ED16-455B-B267-7C1F790C63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openSUS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penSUS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Novel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公司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Novel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現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ttachmat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併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贊助的社群版本。當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penSUS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裡的功能穩定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會加入商業版本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US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penSUS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一樣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是使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PM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基礎的套件管理系統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70648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BC4-AB4F-4CB6-8704-99E674FC6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CentOS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entO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由社群所維護的發行版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它號稱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商業版本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完全相容。所以很適合需要等同商業網站穩定度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不購買商業版本的人使用。主要是因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所有套件都有釋出原始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就有人成立社群將這些原始碼重新編譯並做成發行版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entO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差別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entO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沒有提供商業的技術支援與硬體的認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以使用者若遇到問題就須自行解決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982960" cy="10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2AF-3E81-4450-94DC-C70EFBDA7A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Min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：近幾年人氣很高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它是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修改、精簡而來。強調好的使用體驗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內建許多瀏覽器的附加元件、播放影片所須的編解碼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codec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同時它可以使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套件庫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所受到的關注甚至超越了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可說是青出於藍而勝於藍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2982960" cy="10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D86-EAC2-4BED-8B34-BE6F75BA29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前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Window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在個人電腦領域中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擁有大多數的佔有率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另一股新興的勢力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卻如芒刺在背般地讓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微軟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公司坐立難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那就是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究竟為何有此能耐呢？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3579840"/>
            <a:ext cx="3984840" cy="24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2F6-5D35-4DCA-A697-A0E18E07C6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常見的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發行版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ttp://distrowatch.com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供了目前所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的清單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且有相當詳細的介紹與比較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3320" y="1287360"/>
            <a:ext cx="507960" cy="341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65134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2E3-2F34-4931-B22F-3C30D356DE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3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為何要用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如果只是單純的『價廉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然不足以讓我們採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『物美』 更是決定的因素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最基本的指令操作到友善的視窗介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以及排版作業、文書處理、程式設計、網路連線與管理等功能樣樣俱全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才是我們選擇它的主要原因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EBB-88BB-408A-BBDD-419AC8B07D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圖形整合介面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很多人以為只有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微軟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Window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列才擁有圖形的視窗介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實在是個謬誤。其實現在想找到『 完全沒有圖形使用者介面』 的作業系統還真是困難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舉凡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MacOS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olaris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I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BeO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每一種都擁有各自的圖形使用者介面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完全不讓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Window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專美於前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圖形介面稱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X Window System 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此環境中提供了多種的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視窗管理程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Window Manager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搭配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桌面環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Desktop Environment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讓使用者能以更靈活的方式來管理視窗和使用軟體：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4B8-1403-4CDC-B554-81A42A7732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圖形整合介面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979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95E-3A25-41F0-859F-DADAAA482B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多重開機管理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我們想在一台電腦中安裝一套以上的作業系統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便需要安裝多重開機管理程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例如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PowerQues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BootMagic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V Communication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ystem Commander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國人自製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PFDisk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等；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具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RUB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LO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兩種多重開機管理程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如此您便可以將多種作業系統安裝在同一部電腦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可輕易決定由哪個作業系統開機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BEC-153A-474C-8B3C-AB159C3207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多重開機管理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351080"/>
            <a:ext cx="8785080" cy="51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FAB-5456-4E3D-A17A-8D77FE8D23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安全性高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遠離病毒的危害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的原始碼是公開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任何有興趣的人都可以取得原始碼來研究。有人認為這樣也許會讓有心人士找出系統的缺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危害到系統的安全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是事實上也正因為原始碼是公開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一發現問題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很短的時間內就會有人提出修補的方法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必再等待軟體公司推出更新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得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成為世界上修補漏洞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減少臭蟲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bug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最快的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論是核心或是發行版的改版都相當迅速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F9C-B878-43B2-B0EC-9E872D4670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安全性高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遠離病毒的危害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外由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本身具備嚴謹的權限與系統設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活躍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病毒可說是幾乎沒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以不須安裝防毒軟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只要使用線上更新功能確實更新軟體套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便可以將危害降到最低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B06-9FD9-45E2-AC87-FFD7C904A9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多人多工系統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可供多人使用的先佔式多工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preemptive multitasking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具有優異的記憶體和多工管理能力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僅可讓使用者同時執行數個應用程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還能允許遠端使用者連線登入執行程式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既然是多人多工的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對於使用者帳號的管理自然不在話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包括權限、硬碟空間限制等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有完善的工具可以使用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252-3E84-4F17-8F44-4A96BAD49B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網路能力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沿襲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使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CP/IP (Transmission Control Protocol/Internet Protocol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主要的網路通訊協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內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TP (File Transfer Protocol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E-mai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elnet ..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功能。再加上穩定性高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許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ISP (Internet Service Providers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採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來架設郵件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WWW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TP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伺服器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對大多數個人用戶而言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能否順利上網是更令人關心的問題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支援了以數據機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DSL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網路卡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..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方式連接網路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讓一般使用者也能輕鬆悠遊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Interne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C65-4FC6-4D40-91BA-573A6617F7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前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實您平時使用的文書編輯、影像處理、辦公室軟體、程式開發工具、光碟燒錄、網路即時傳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甚至架設伺服器等等的軟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上都已有功能相當的軟體可以使用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且大部份皆可免費取得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最重要的一點在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講求的是『 自由』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free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『 開放』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open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觀念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讓眾人得以分享成果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各種軟體發展與改進的速度更快。您可以好好想想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還有沒有必要花費數千元購買一套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Window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然後再花數萬元購買各種應用軟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接著卻還得處處受限於軟體廠商的各種限制呢！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8C7-9068-48A3-8091-118A9AC045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程式開發工具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程式設計師最關心的無非是如何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開發軟體。由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非常穩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得它成為優良的開發設計平台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軟體套件中包括了多種程式語言與開發工具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例如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cc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c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br>
              <a:rPr sz="3000"/>
            </a:b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Eclips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++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cl/Tk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br>
              <a:rPr sz="3000"/>
            </a:b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PHP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Perl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ortran-77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br>
              <a:rPr sz="3000"/>
            </a:b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uby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Python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6520" y="2781360"/>
            <a:ext cx="3346200" cy="35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75E-8C5F-40F8-A95A-3D37CFD57C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4 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中文化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大部分的作業系統都以英文為本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文的支援一直是個問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支援程度的好壞也與該作業系統在國內的佔有率息息相關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本身也是一套以英文為主的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是由於許多人士的努力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已擁有許多中文套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可讓使用者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文字模式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X Window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圖形模式下顯示與輸入中文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E63-3E3C-4A86-9A65-77AC144AC3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中文化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5080" cy="48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979-14BA-4BE8-9205-A62D3FD811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中文化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目前已整合繁體中文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版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除了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之外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主要還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Min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USE Linux..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至於大陸地區所使用的簡體中文版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urbo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紅旗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..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多種發行版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用書附光碟安裝好系統之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即可在大部分的程式正常輸入及顯示中文。目前我們得以享用這些中文化的成果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大多是經過早期國內熱心的使用者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團隊的貢獻所致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3320" y="2781360"/>
            <a:ext cx="50796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AB9-3B00-4A11-B31B-E59A3F0576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中文化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最早的維護者是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鄭原忠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先生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外號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小蟲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他將一些中文相關軟體以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PM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檔的格式包裝起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1998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年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6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20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日在網路上公開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E v0.3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目的在於讓所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中文使用者都能輕鬆擁有中文化的環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不需要自己去一一下載中文程式、字型、修補檔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Patch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再歷經安裝、設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...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繁複的步驟。這對於需要使用中文的人來說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相當重要的進展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934-5B20-4F88-B309-4FC812E3DF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中文化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除了包裝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套件外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團隊也將他們所做的修改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一一反應給程式作者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行廠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如此等到下次發行新版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些程式不需修改便能具備處理中文的能力。也因此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文環境逐漸完善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已經慢慢地退居幕後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是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歷史上的地位將是永遠令人敬佩的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B3B-B708-4E6D-BB3E-89F7176D5E8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5 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資訊何處尋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更新相當迅速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您在閱讀此書的時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新的版本可能就已經出現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建議您最好經常連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Internet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到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的新聞群組或是網站中逛逛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隨時了解新的訊息並吸收新的知識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90B-DA1F-4EF8-ABB2-EE89E74A64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5-1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新聞群組與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BBS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網站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以下列出幾個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的新聞群組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BB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網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您可以在裡面詢問問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或是回答他人的問題：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w.bbs.comp.linux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是台灣學術網路的新聞群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可以使用中文。但因為這裡並沒有依照主題來區分不同的討論區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有的內容都混雜在一起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顯得有點凌亂。不過使用自己的母語是最方便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且裡面也有一些高手可以請教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F41-7958-451E-8E9F-74ED67D804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新聞群組與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BBS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網站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xxx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是英文新聞群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包括了一整群的新聞群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例如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answers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developmen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hardwar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networkin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.os.linux.setup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等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針對每種主題各有一個相關的新聞群組；您若要在此處發言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請使用英文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否則將造成別人的困擾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文字會變成一堆亂碼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080-75FC-4BD7-92E1-9B6E1A2D50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新聞群組與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BBS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網站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bbs.sayya.org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是一個專門交換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訊息及知識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BB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其中有許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議題的討論與文章整理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D4D-D427-4396-8D57-7F4C2D1742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前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近年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對於包括中文在內的各國語言支援日益完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僅使用者大增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連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racl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IB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P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un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等許多軟硬體大廠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也都紛紛投入這個領域。從這樣的趨勢來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我們相信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前途是不可限量的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3D9-C38A-400B-80FD-230B97585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5-2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全球資訊網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Interne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全面帶上高峰的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就是</a:t>
            </a:r>
            <a:r>
              <a:rPr b="1" lang="zh-TW" sz="3000" spc="-1" strike="noStrike">
                <a:solidFill>
                  <a:srgbClr val="cc6600"/>
                </a:solidFill>
                <a:latin typeface="Arial"/>
              </a:rPr>
              <a:t>全球資訊網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World Wide Web)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中很多站台都擁有豐富且生動的資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我們應該善加利用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中取得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關的資料與訊息。下面是幾個可以查閱資料的網站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A28-B7A8-4452-BF88-F72875CFD6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中文網站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台灣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www.linux.org.tw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為台灣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入口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供許多台灣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新聞與資源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LDP -- 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文文件計劃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www.linux.org.tw/CLDP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為屬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TLUG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之下的一個中文文件計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擁有大量已經翻譯成中文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HOWTO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文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感謝這些熱心的人士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自由軟體技術交流網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free.tnc.edu.tw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供自由軟體的介紹、教學及使用者討論區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695-48D6-43EE-8732-26D2331A2B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中文網站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Taiwan User Group [FTUG] - http://fedora.tw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台灣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用者網站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許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新聞與訊息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且提供討論區可以讓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使用者詢問與討論問題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SSF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自由軟體鑄造場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www.openfoundry.org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供自由軟體作者一個管理與儲存原始碼的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並且定期發行電子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介紹許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開放原始碼的相關文件及議題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3F0-A7E0-490E-98EB-B346C940F4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中文網站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鳥哥的私房菜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linux.vbird.org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網站亦提供許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及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DSL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的文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基本的安裝、指令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到伺服器的架設及系統安全管理都有介紹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酷學園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Study Area) - http://www.study-area.org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提供非常詳細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教學文件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X Window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、編譯核心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到安裝各種伺服器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有介紹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洪朝貴教授的首頁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people.ofset.org/~ckhung/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洪朝貴教授的首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裡有許多關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及探討自由軟體的文章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EA7-7CE1-4AB7-A07D-511EED1A72E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英文網站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Online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- http://www.linux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.com - http://www.linux.com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Just Linux - http://www.justlinux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istroWatch - http://www.distrowatch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Central - http://www.linuxcentral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A8D-B803-4FC1-AD94-3B1F7E9523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主要發行版的網站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edora - http://fedoraproject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buntu - http://www.ubuntu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Red Hat Enterprise Linux - http://www.redhat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USE Linux - http://www.suse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Debian GNU/Linux - http://www.debian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Mint - http://linuxmint.com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entOS - http://www.centos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openSUSE - http://www.opensuse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D5E-0110-4076-B194-61A26C6BC2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5-3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雜誌與新聞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以下幾個是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關雜誌與新聞的網站：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Journal - http://www.linuxjournal.com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此為英文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刊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Format - http://www.linuxformat.co.uk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也是英文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月刊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Today - http://linuxtoday.com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這個網站上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您可以得到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關的頭條新聞及其詳細內容。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lashdot - http://linux.slashdot.org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裡也有很多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新聞資訊與相關討論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CD7-8D58-4C76-82F0-670DEE7A81D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5-4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用的搜尋技巧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操作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過程中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若是遇到書中找不到解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問旁人也沒有人懂的疑難問題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網路上的文件可能便是您的救星。但是要怎麼從數以千萬計的文件中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快速找到自己想要的文件呢？這時您可以利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oogle (www.google.com.tw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提供的網路全文搜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將操作時所得到的錯誤訊息輸入為關鍵字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就有機會找到與問題相關的文件或解答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C61-02AA-440D-8626-FDE4D2C1794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用的搜尋技巧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98680" y="1197000"/>
            <a:ext cx="628956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90B-7B6B-4B0F-A69C-FF75E818D23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用的搜尋技巧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365880" cy="39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667-C02D-4995-8941-42608ABC1E0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什麼是作業系統？ 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是電腦硬體與使用者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應用程式之間的媒介。使用者透過應用程式或作業系統來操控電腦硬體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再將執行的結果回應給使用者或應用程式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主要的功能有以下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3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項：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管理電腦的各項資源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如 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CPU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、</a:t>
            </a:r>
            <a:br>
              <a:rPr sz="2800"/>
            </a:b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記憶體的使用、檔案管理、輸入</a:t>
            </a:r>
            <a:br>
              <a:rPr sz="2800"/>
            </a:b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及輸出設備等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提供使用者操作介面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提供應用程式執行的環境及系統</a:t>
            </a:r>
            <a:br>
              <a:rPr sz="2800"/>
            </a:b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呼叫服務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59640" y="3429000"/>
            <a:ext cx="173808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B6E-8B3F-4C58-9823-C2C85C2089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務經驗談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您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Google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網站搜尋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若直接輸入關鍵字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沒有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符號括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那麼所有內含關鍵字的網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論順序與完整性如何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都將符合此搜尋條件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例如搜尋『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company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只要內容有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與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company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這兩個字的網頁都會顯示出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所以會找到內容含有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company is grea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 與 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publishing company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 的網頁。故此方法適用於較大範圍的搜尋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EB5-ED90-4270-8636-28CD390293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務經驗談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反之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將關鍵字以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符號括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則表示要以片語的方式搜尋。如搜尋『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flag company"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只會找到內容含有 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company is great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 的網頁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而內容為 『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flag publishing company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』 的網頁則不會顯示出來。所以若您已經確定關鍵字為一個片語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便可以使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"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符號進行較精確的搜尋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10B-2982-494A-A831-123DF42807B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實用的搜尋技巧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另外在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SayYA Linux's BB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站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bbs.sayya.org)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中也有相當多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文件可供查閱。如果努力搜尋後仍然找不到資料的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還可以在上面發文詢問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只要將問題敘述詳盡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信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社群中會有熱心的朋友為您指引方向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看完了本章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信您對於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已經有了基本的認識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接下來我們要從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的安裝、操作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到系統管理及伺服器架設等主題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一一地詳細介紹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925-5077-470B-B67F-7D6A2E3C70A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1-1 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個人電腦剛出現的年代裡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不同規格、等級及功能的電腦硬體及作業系統種類繁多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可謂百家爭鳴。其中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最早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T&amp;T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貝爾實驗室發展出來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當時功能強大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且廣受歡迎與推崇的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但缺點是只能在價格昂貴的工作站等級電腦上運行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了讓更多人可以體驗這套優秀的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許多人開始發展在個人電腦上也可以使用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。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Andrew (Andy) Tanenbaum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為教學目的所發展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Mi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系統即為其中之一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6BA-733F-471F-B737-E856DB3D7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從小愛電腦成癡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s Torvald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還是芬蘭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elsinki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大學的學生。當他興沖沖的在自己剛買來的個人電腦上安裝完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Mi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作業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想要開啟一個虛擬終端機連線上學校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主機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卻發現沒有辦法做到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因此激起他自己寫一個虛擬終端機的想法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結果這個計畫越作越大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最後竟發展出一套全新的作業系統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5E6-3165-4BC5-A587-6C3FAE002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57320"/>
            <a:ext cx="8785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Linux 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的起源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最初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在開發這套作業系統時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將存放此系統的分割區命名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後來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支持此系統的網友們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便將此系統稱為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x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意思便是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Linus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發展的作業系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當時作業系統的名稱常以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結尾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Mi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是一種小型的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相容系統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有興趣者可自行參閱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ttp://www.minix3.org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或 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http://www.minix.org</a:t>
            </a:r>
            <a:r>
              <a:rPr b="0" lang="zh-TW" sz="30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3320" y="3664080"/>
            <a:ext cx="50796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FD2-73C7-47F1-812E-B65321ED75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4:09:33Z</dcterms:created>
  <dc:creator>EMILY</dc:creator>
  <dc:description/>
  <dc:language>en-US</dc:language>
  <cp:lastModifiedBy>nicole</cp:lastModifiedBy>
  <dcterms:modified xsi:type="dcterms:W3CDTF">2012-08-05T02:18:33Z</dcterms:modified>
  <cp:revision>52</cp:revision>
  <dc:subject/>
  <dc:title>投影片 1</dc:title>
</cp:coreProperties>
</file>